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925050" cy="6789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230-3D81-42D5-B623-5E8CB181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AA9-0237-400A-8930-0061D71C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64B-C4AC-4926-86E5-C480A4FE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B1F-4AAC-4152-85EB-B891876F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B50-553F-4F21-A24A-0BD2A1B7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80C-AE27-4A62-8A01-B37F3331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854-8963-466F-AAAE-3ECEC96A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FC2-A625-48A5-9C7F-BFE2050D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ED9-DED9-4F24-9F0F-A597B8BD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F6B-84AF-43F6-BFF3-F50DD0E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685-1506-40D9-8EA4-A578DFC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680-FF3A-446B-8E02-8A77221F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457-8505-464E-AB14-A68071E2442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62000" y="928800"/>
            <a:ext cx="882000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3600" spc="-1" strike="noStrike">
                <a:solidFill>
                  <a:srgbClr val="191966"/>
                </a:solidFill>
                <a:latin typeface="Arial Black"/>
              </a:rPr>
              <a:t>IMÓVEIS DO FUNDO DO REGIME GERAL DA PREVIDÊNCIA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4800" spc="-1" strike="noStrike">
                <a:solidFill>
                  <a:srgbClr val="191966"/>
                </a:solidFill>
                <a:latin typeface="Arial Black"/>
              </a:rPr>
              <a:t>20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2800" spc="-1" strike="noStrike">
                <a:solidFill>
                  <a:srgbClr val="191966"/>
                </a:solidFill>
                <a:latin typeface="Arial Black"/>
              </a:rPr>
              <a:t>DIRETORIA DE ORÇAMENTO, FINANÇAS E LOGÍSTICA/IN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 Black"/>
              </a:rPr>
              <a:t>Setembro d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4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5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8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4"/>
          <p:cNvSpPr/>
          <p:nvPr/>
        </p:nvSpPr>
        <p:spPr>
          <a:xfrm>
            <a:off x="857160" y="1285920"/>
            <a:ext cx="7572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i="1" lang="en-US" sz="2400" spc="-1" strike="noStrike">
                <a:solidFill>
                  <a:srgbClr val="191966"/>
                </a:solidFill>
                <a:latin typeface="Arial"/>
              </a:rPr>
              <a:t>ALIENAÇÕES – </a:t>
            </a:r>
            <a:r>
              <a:rPr b="1" i="1" lang="en-US" sz="2000" spc="-1" strike="noStrike">
                <a:solidFill>
                  <a:srgbClr val="191966"/>
                </a:solidFill>
                <a:latin typeface="Arial"/>
              </a:rPr>
              <a:t>Acumulado até Agosto/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ixaDeTexto 17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Gráfico 6"/>
          <p:cNvGraphicFramePr/>
          <p:nvPr/>
        </p:nvGraphicFramePr>
        <p:xfrm>
          <a:off x="1143000" y="2120760"/>
          <a:ext cx="6908760" cy="3251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Gráfico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120760"/>
                    <a:ext cx="6908760" cy="32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214280" y="5429160"/>
          <a:ext cx="6715440" cy="1235160"/>
        </p:xfrm>
        <a:graphic>
          <a:graphicData uri="http://schemas.openxmlformats.org/drawingml/2006/table">
            <a:tbl>
              <a:tblPr/>
              <a:tblGrid>
                <a:gridCol w="6715440"/>
              </a:tblGrid>
              <a:tr h="12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35 Alienações Previstas (ANO 20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2 Alienações Realizadas até Ago/15 (9,5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 Alienações Administração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0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4"/>
          <p:cNvSpPr/>
          <p:nvPr/>
        </p:nvSpPr>
        <p:spPr>
          <a:xfrm>
            <a:off x="1000080" y="1357200"/>
            <a:ext cx="7215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i="1" lang="en-US" sz="2400" spc="-1" strike="noStrike">
                <a:solidFill>
                  <a:srgbClr val="191966"/>
                </a:solidFill>
                <a:latin typeface="Arial"/>
              </a:rPr>
              <a:t>Imóveis do Fundo – Ocupação Ir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785880" y="2071800"/>
            <a:ext cx="7500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buClr>
                <a:srgbClr val="191966"/>
              </a:buClr>
              <a:buFont typeface="Arial"/>
              <a:buChar char="•"/>
              <a:tabLst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7"/>
          <p:cNvSpPr/>
          <p:nvPr/>
        </p:nvSpPr>
        <p:spPr>
          <a:xfrm>
            <a:off x="0" y="50004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Gráfico 8" descr=""/>
          <p:cNvPicPr/>
          <p:nvPr/>
        </p:nvPicPr>
        <p:blipFill>
          <a:blip r:embed="rId3"/>
          <a:stretch/>
        </p:blipFill>
        <p:spPr>
          <a:xfrm>
            <a:off x="676440" y="1994040"/>
            <a:ext cx="7791120" cy="35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214280" y="5715000"/>
          <a:ext cx="7072560" cy="822240"/>
        </p:xfrm>
        <a:graphic>
          <a:graphicData uri="http://schemas.openxmlformats.org/drawingml/2006/table">
            <a:tbl>
              <a:tblPr/>
              <a:tblGrid>
                <a:gridCol w="7072560"/>
              </a:tblGrid>
              <a:tr h="82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360 Imóveis Irregula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Invadidos e Ocupação Irregul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12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4"/>
          <p:cNvSpPr/>
          <p:nvPr/>
        </p:nvSpPr>
        <p:spPr>
          <a:xfrm>
            <a:off x="1071720" y="1357200"/>
            <a:ext cx="76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i="1" lang="en-US" sz="2400" spc="-1" strike="noStrike">
                <a:solidFill>
                  <a:srgbClr val="191966"/>
                </a:solidFill>
                <a:latin typeface="Arial"/>
              </a:rPr>
              <a:t>Imóveis do Fundo – Irregular (Ocup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785880" y="2071800"/>
            <a:ext cx="7500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buClr>
                <a:srgbClr val="191966"/>
              </a:buClr>
              <a:buFont typeface="Arial"/>
              <a:buChar char="•"/>
              <a:tabLst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17"/>
          <p:cNvSpPr/>
          <p:nvPr/>
        </p:nvSpPr>
        <p:spPr>
          <a:xfrm>
            <a:off x="0" y="50004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Gráfico 7" descr=""/>
          <p:cNvPicPr/>
          <p:nvPr/>
        </p:nvPicPr>
        <p:blipFill>
          <a:blip r:embed="rId3"/>
          <a:stretch/>
        </p:blipFill>
        <p:spPr>
          <a:xfrm>
            <a:off x="714240" y="2000160"/>
            <a:ext cx="792972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18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4929120" y="2000160"/>
            <a:ext cx="3882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71680" y="1143000"/>
            <a:ext cx="82152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DIRETORIA DE ORÇAMENTO, FINANÇAS E LOGÍSTICA - DIROFL</a:t>
            </a:r>
            <a:br>
              <a:rPr sz="1400"/>
            </a:b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Lenilson Queiroz de Araujo</a:t>
            </a:r>
            <a:br>
              <a:rPr sz="1400"/>
            </a:b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E-mail: </a:t>
            </a:r>
            <a:r>
              <a:rPr b="0" lang="pt-BR" sz="1400" spc="-1" strike="noStrike" u="sng">
                <a:solidFill>
                  <a:srgbClr val="002060"/>
                </a:solidFill>
                <a:uFillTx/>
                <a:latin typeface="Arial"/>
              </a:rPr>
              <a:t>lenilson.araujo@inss.gov.br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 Fone: (61) 3313-45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COORDENAÇÃO-GERAL DE ENGENHARIA E PATRIMÔNIO IMOBILIÁRIO - CGEPI</a:t>
            </a:r>
            <a:br>
              <a:rPr sz="1400"/>
            </a:b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Marcos de Brito Campos Junior</a:t>
            </a:r>
            <a:br>
              <a:rPr sz="1400"/>
            </a:b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E-mail: </a:t>
            </a:r>
            <a:r>
              <a:rPr b="0" lang="pt-BR" sz="1400" spc="-1" strike="noStrike" u="sng">
                <a:solidFill>
                  <a:srgbClr val="002060"/>
                </a:solidFill>
                <a:uFillTx/>
                <a:latin typeface="Arial"/>
              </a:rPr>
              <a:t>marcos.campos@inss.gov.br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 Fone: (61) 3313-47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COORDENAÇÃO DE ENGENHARIA E PATRIMÔNIO IMOBILIÁRIO - CEPAI</a:t>
            </a:r>
            <a:br>
              <a:rPr sz="1400"/>
            </a:b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Manuella Andrade Pereira Souza</a:t>
            </a:r>
            <a:br>
              <a:rPr sz="1400"/>
            </a:b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E-mail: </a:t>
            </a:r>
            <a:r>
              <a:rPr b="0" lang="pt-BR" sz="1400" spc="-1" strike="noStrike" u="sng">
                <a:solidFill>
                  <a:srgbClr val="002060"/>
                </a:solidFill>
                <a:uFillTx/>
                <a:latin typeface="Arial"/>
              </a:rPr>
              <a:t>manuella.silva@inss.gov.br  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 Fone: (61) 3313-4534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DIVISÃO DE PATRIMÔNIO IMOBILIÁRIO - DIPAI</a:t>
            </a:r>
            <a:br>
              <a:rPr sz="1400"/>
            </a:b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2060"/>
                </a:solidFill>
                <a:latin typeface="Arial"/>
              </a:rPr>
              <a:t>Henrique Vieira Ferrari</a:t>
            </a:r>
            <a:br>
              <a:rPr sz="1400"/>
            </a:b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E-mail: </a:t>
            </a:r>
            <a:r>
              <a:rPr b="0" lang="pt-BR" sz="1400" spc="-1" strike="noStrike" u="sng">
                <a:solidFill>
                  <a:srgbClr val="002060"/>
                </a:solidFill>
                <a:uFillTx/>
                <a:latin typeface="Arial"/>
              </a:rPr>
              <a:t>henrique.ferrari@inss.gov.br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 Fone: (61) 3313-4004 </a:t>
            </a:r>
            <a:br>
              <a:rPr sz="1400"/>
            </a:b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 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17"/>
          <p:cNvSpPr/>
          <p:nvPr/>
        </p:nvSpPr>
        <p:spPr>
          <a:xfrm>
            <a:off x="0" y="50004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</a:rPr>
              <a:t>EQU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285840" y="1071720"/>
            <a:ext cx="857232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Arial"/>
              </a:rPr>
              <a:t>Marcos de Brito Campos Jun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2060"/>
                </a:solidFill>
                <a:latin typeface="Arial"/>
              </a:rPr>
              <a:t>Coordenação Geral de Engenharia e Patrimônio Imobil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2060"/>
                </a:solidFill>
                <a:uFillTx/>
                <a:latin typeface="Arial"/>
              </a:rPr>
              <a:t>Marcos.campos@inss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214280" y="1214280"/>
          <a:ext cx="6670800" cy="2571840"/>
        </p:xfrm>
        <a:graphic>
          <a:graphicData uri="http://schemas.openxmlformats.org/drawingml/2006/table">
            <a:tbl>
              <a:tblPr/>
              <a:tblGrid>
                <a:gridCol w="1357560"/>
                <a:gridCol w="1785960"/>
                <a:gridCol w="1790640"/>
                <a:gridCol w="1736640"/>
              </a:tblGrid>
              <a:tr h="444600"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NTÁ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UN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N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R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47" name="CaixaDeTexto 5"/>
          <p:cNvSpPr/>
          <p:nvPr/>
        </p:nvSpPr>
        <p:spPr>
          <a:xfrm>
            <a:off x="6506640" y="6500880"/>
            <a:ext cx="95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254061"/>
                </a:solidFill>
                <a:latin typeface="Arial"/>
              </a:rPr>
              <a:t>Fonte: SGPIWe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Gráfico 9"/>
          <p:cNvGraphicFramePr/>
          <p:nvPr/>
        </p:nvGraphicFramePr>
        <p:xfrm>
          <a:off x="1285920" y="3357720"/>
          <a:ext cx="6572160" cy="3214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" name="Gráfico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3357720"/>
                    <a:ext cx="6572160" cy="32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CaixaDeTexto 17"/>
          <p:cNvSpPr/>
          <p:nvPr/>
        </p:nvSpPr>
        <p:spPr>
          <a:xfrm>
            <a:off x="142920" y="64296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2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pic>
        <p:nvPicPr>
          <p:cNvPr id="53" name="Retângulo 21" descr=""/>
          <p:cNvPicPr/>
          <p:nvPr/>
        </p:nvPicPr>
        <p:blipFill>
          <a:blip r:embed="rId3"/>
          <a:stretch/>
        </p:blipFill>
        <p:spPr>
          <a:xfrm>
            <a:off x="5450040" y="1835280"/>
            <a:ext cx="2388960" cy="1272960"/>
          </a:xfrm>
          <a:prstGeom prst="rect">
            <a:avLst/>
          </a:prstGeom>
          <a:ln w="0">
            <a:noFill/>
          </a:ln>
        </p:spPr>
      </p:pic>
      <p:pic>
        <p:nvPicPr>
          <p:cNvPr id="54" name="Diagrama 10" descr=""/>
          <p:cNvPicPr/>
          <p:nvPr/>
        </p:nvPicPr>
        <p:blipFill>
          <a:blip r:embed="rId4"/>
          <a:stretch/>
        </p:blipFill>
        <p:spPr>
          <a:xfrm>
            <a:off x="798480" y="1420920"/>
            <a:ext cx="7643880" cy="458316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17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12"/>
          <p:cNvSpPr/>
          <p:nvPr/>
        </p:nvSpPr>
        <p:spPr>
          <a:xfrm>
            <a:off x="6507000" y="6500880"/>
            <a:ext cx="136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254061"/>
                </a:solidFill>
                <a:latin typeface="Arial"/>
              </a:rPr>
              <a:t>Fonte: DIPAI – SGPIWE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8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0" y="114300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FORMAS DE ALI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785880" y="2071800"/>
            <a:ext cx="7500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buClr>
                <a:srgbClr val="191966"/>
              </a:buClr>
              <a:buFont typeface="Arial"/>
              <a:buChar char="•"/>
              <a:tabLst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7"/>
          <p:cNvSpPr/>
          <p:nvPr/>
        </p:nvSpPr>
        <p:spPr>
          <a:xfrm>
            <a:off x="0" y="50004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Diagrama 8" descr=""/>
          <p:cNvPicPr/>
          <p:nvPr/>
        </p:nvPicPr>
        <p:blipFill>
          <a:blip r:embed="rId3"/>
          <a:stretch/>
        </p:blipFill>
        <p:spPr>
          <a:xfrm>
            <a:off x="298440" y="1609560"/>
            <a:ext cx="8753400" cy="503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4"/>
          <p:cNvSpPr/>
          <p:nvPr/>
        </p:nvSpPr>
        <p:spPr>
          <a:xfrm>
            <a:off x="857160" y="1428840"/>
            <a:ext cx="7429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COMP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785880" y="2071800"/>
            <a:ext cx="7500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buClr>
                <a:srgbClr val="191966"/>
              </a:buClr>
              <a:buFont typeface="Arial"/>
              <a:buChar char="•"/>
              <a:tabLst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17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57160" y="1928880"/>
          <a:ext cx="7429680" cy="4286160"/>
        </p:xfrm>
        <a:graphic>
          <a:graphicData uri="http://schemas.openxmlformats.org/drawingml/2006/table">
            <a:tbl>
              <a:tblPr/>
              <a:tblGrid>
                <a:gridCol w="4572000"/>
                <a:gridCol w="285768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DADE - ES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UNICÍPIO DE SÃO PAULO – IPRE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6.912.341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IO DE JANEIRO – RIOPREVIDÊ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0.00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RNAMBU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.345.895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C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.446.129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UNICÍPIO DE GOIÂNIA - GOI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.591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AH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4.900.222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LU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751.403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AGO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7.598.013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1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4"/>
          <p:cNvSpPr/>
          <p:nvPr/>
        </p:nvSpPr>
        <p:spPr>
          <a:xfrm>
            <a:off x="214200" y="1285920"/>
            <a:ext cx="7429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COMPREV SP - IP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785880" y="2071800"/>
            <a:ext cx="7500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buClr>
                <a:srgbClr val="191966"/>
              </a:buClr>
              <a:buFont typeface="Arial"/>
              <a:buChar char="•"/>
              <a:tabLst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17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4200" y="1928880"/>
          <a:ext cx="8786880" cy="4707000"/>
        </p:xfrm>
        <a:graphic>
          <a:graphicData uri="http://schemas.openxmlformats.org/drawingml/2006/table">
            <a:tbl>
              <a:tblPr/>
              <a:tblGrid>
                <a:gridCol w="565200"/>
                <a:gridCol w="1393920"/>
                <a:gridCol w="2662200"/>
                <a:gridCol w="1235160"/>
                <a:gridCol w="1279440"/>
                <a:gridCol w="1650960"/>
              </a:tblGrid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RÊNCIA EXEC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EREÇO DO IMÓ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DA AVALI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(R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ed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NICÍPIO PREVISTO NA LEI Nº 16.121, DE 14 DE JANEIRO DE 2015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ed5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DA CONSOLAÇÃO, N°S 1047, 1059 E 1075 - CONSOLAÇÃO/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/04/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.287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GENERAL RONDON, N° 52/82 - BRÁS/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/04/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.78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ALMIRANTE MARQUES LEÃO, N° 202 - BELA VISTA/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/04/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05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JOSÉ BONIFÁCIO, N°237 - CENTRO/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/04/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.80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9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PIAUÍ, N° 527 - HIGIENÓPOLIS/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5/05/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1.382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MARQUES DE PARANAGUÁ, Nº 124, CONSOLAÇÃO, SÃO PAULO, 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AUDO VENC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70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COMENDADOR ELIAS JAFET, Nº 361, JARDIM LEONOR, SÃO PAULO, 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AUDO VENC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90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VENIDA 9 DE JULHO AO LADO DO Nº 1138, BELA VISTA, SÃO PAULO, 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AUDO VENC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30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VENIDA 9 DE JULHO ENTRE OS Nº S 1187 E 1217, BELA VISTA, SÃO PAULO, 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AUDO VENC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40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VENIDA SENADOR TEOTÔNIO VILELA LOTES, 5 A 19, QUADRA. 87, CIDADE DUTRA, SÃO PAULO, 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AUDO VENC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.00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SANTO ANTÔNIO NºS 580/590/594, BELA VISTA, SÃO PAULO, SP 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/04/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.757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SANTO ANTÔNIO NºS 630/642, BELA VISTA, SÃO PAULO, SP 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/04/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.420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7.776.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7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142920" y="1285920"/>
            <a:ext cx="8858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COMPENSAÇÃO 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785880" y="2071800"/>
            <a:ext cx="7500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buClr>
                <a:srgbClr val="191966"/>
              </a:buClr>
              <a:buFont typeface="Arial"/>
              <a:buChar char="•"/>
              <a:tabLst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17"/>
          <p:cNvSpPr/>
          <p:nvPr/>
        </p:nvSpPr>
        <p:spPr>
          <a:xfrm>
            <a:off x="142920" y="57168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1280" y="1785960"/>
          <a:ext cx="9001440" cy="4981680"/>
        </p:xfrm>
        <a:graphic>
          <a:graphicData uri="http://schemas.openxmlformats.org/drawingml/2006/table">
            <a:tbl>
              <a:tblPr/>
              <a:tblGrid>
                <a:gridCol w="422280"/>
                <a:gridCol w="1721160"/>
                <a:gridCol w="2357280"/>
                <a:gridCol w="1285920"/>
                <a:gridCol w="857160"/>
                <a:gridCol w="1122480"/>
                <a:gridCol w="1235160"/>
              </a:tblGrid>
              <a:tr h="8668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EREÇO DO IMÓ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ESS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DA AVALI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(R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ISÃO ORÇAMENTÁRIA 2015 (R$) DO MINISTÉ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08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ORTAL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DO ROSÁRIO, 283, CENTRO, FORTALEZA/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NISTÉRIO DA SAÚ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/03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.365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18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640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ORTO ALEG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VENIDA BORGES DE MEDEIROS, 536, CENTRO, PORTO ALEGRE/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NISTÉRIO DA SAÚ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/04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8.856.7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973.3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460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VENIDA NOVE DE JULHO, 611, BELA VISTA/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NISTÉRIO DA SAÚ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/04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.158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666.66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316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 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JAPURÁ, BELA VISTA/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NISTÉRIO DA SAÚ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8/04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3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56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424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ISTRITO FED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IA TRECHO 4, LOTES 540/610, BRASÍLIA/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NISTÉRIO DA SAÚ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/05/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3.9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724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816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BERNADO DO CA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V. PIRAPORINHA 1808, LOTES 20 E 22 A 29, AV. PIRAPORINHA, QUADRA 01 E TRAVESSA ROBERTO, PARTES DOS LOTES 10 A 15, 18 E 19, DIADEMA/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NISTÉRIO DA SAÚ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2/04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.34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666.66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IO 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VENEZUELA, N° 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NISTÉRIO DE CIÊNCIA E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1/01/201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.00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92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2.919.7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.693.33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83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4"/>
          <p:cNvSpPr/>
          <p:nvPr/>
        </p:nvSpPr>
        <p:spPr>
          <a:xfrm>
            <a:off x="179280" y="1268280"/>
            <a:ext cx="8964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Arial"/>
              </a:rPr>
              <a:t>IMÓVEIS PRIORITÁRIOS PARA O PROGRAMA DE ARRENDAMENTO FAMILIA -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1600" spc="-1" strike="noStrike">
                <a:solidFill>
                  <a:srgbClr val="002060"/>
                </a:solidFill>
                <a:latin typeface="Arial"/>
              </a:rPr>
              <a:t>Resolução INSS nº 21/2006 e Lei nº 11.481/2007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785880" y="2071800"/>
            <a:ext cx="7500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buClr>
                <a:srgbClr val="191966"/>
              </a:buClr>
              <a:buFont typeface="Arial"/>
              <a:buChar char="•"/>
              <a:tabLst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17"/>
          <p:cNvSpPr/>
          <p:nvPr/>
        </p:nvSpPr>
        <p:spPr>
          <a:xfrm>
            <a:off x="0" y="642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 Black"/>
              </a:rPr>
              <a:t>PATRIMÔ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2492280"/>
          <a:ext cx="8785440" cy="3538800"/>
        </p:xfrm>
        <a:graphic>
          <a:graphicData uri="http://schemas.openxmlformats.org/drawingml/2006/table">
            <a:tbl>
              <a:tblPr/>
              <a:tblGrid>
                <a:gridCol w="2448000"/>
                <a:gridCol w="4343400"/>
                <a:gridCol w="1994040"/>
              </a:tblGrid>
              <a:tr h="580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DADE - ES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EREÇO DO IMÓ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VALOR ECONÔMIC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988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ELO HORIZONTE/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Caetés, nº. 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 defi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8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IO DE JANEIRO/R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Sara, 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 defi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 rowSpan="3"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ÃO PAULO/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venida Nove de Julho, Nº 594/612 – Lotes 7 e 8 – Prédio–Refor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 defi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venida Nove de Julho, nº 584/590 – Terreno – Construçã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 defi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Maria Domitila, nº. 228/232 – Constru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 defi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VITÓRIA/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ua General Osório, nº. 26 – Ed. Arag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ão defi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8" name="Rectangle 14"/>
          <p:cNvSpPr/>
          <p:nvPr/>
        </p:nvSpPr>
        <p:spPr>
          <a:xfrm>
            <a:off x="0" y="6072120"/>
            <a:ext cx="896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1600" spc="-1" strike="noStrike">
                <a:solidFill>
                  <a:srgbClr val="002060"/>
                </a:solidFill>
                <a:latin typeface="Arial"/>
              </a:rPr>
              <a:t>* Valor a ser definido pela Caixa Econômica Fed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ixaDeTexto 17"/>
          <p:cNvSpPr/>
          <p:nvPr/>
        </p:nvSpPr>
        <p:spPr>
          <a:xfrm>
            <a:off x="71280" y="571680"/>
            <a:ext cx="90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 Black"/>
              </a:rPr>
              <a:t>Plano de Ação 201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785880" y="5429160"/>
            <a:ext cx="428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1600" spc="-1" strike="noStrike">
                <a:solidFill>
                  <a:srgbClr val="191966"/>
                </a:solidFill>
                <a:latin typeface="Arial"/>
              </a:rPr>
              <a:t>Até AGOSTO/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66"/>
              </a:buClr>
              <a:buFont typeface="Arial"/>
              <a:buChar char="•"/>
              <a:tabLst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1600" spc="-1" strike="noStrike">
                <a:solidFill>
                  <a:srgbClr val="1919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191966"/>
                </a:solidFill>
                <a:latin typeface="Arial"/>
              </a:rPr>
              <a:t>Previsto: 83 Imóve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66"/>
              </a:buClr>
              <a:buFont typeface="Arial"/>
              <a:buChar char="•"/>
              <a:tabLst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1600" spc="-1" strike="noStrike">
                <a:solidFill>
                  <a:srgbClr val="1919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191966"/>
                </a:solidFill>
                <a:latin typeface="Arial"/>
              </a:rPr>
              <a:t>Realizado: </a:t>
            </a:r>
            <a:r>
              <a:rPr b="1" lang="pt-BR" sz="1600" spc="-1" strike="noStrike" u="sng">
                <a:solidFill>
                  <a:srgbClr val="191966"/>
                </a:solidFill>
                <a:uFillTx/>
                <a:latin typeface="Arial"/>
              </a:rPr>
              <a:t>32 Imóveis + 3 Imóveis na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5880" y="1857240"/>
          <a:ext cx="7572240" cy="3454560"/>
        </p:xfrm>
        <a:graphic>
          <a:graphicData uri="http://schemas.openxmlformats.org/drawingml/2006/table">
            <a:tbl>
              <a:tblPr/>
              <a:tblGrid>
                <a:gridCol w="2104920"/>
                <a:gridCol w="382680"/>
                <a:gridCol w="382680"/>
                <a:gridCol w="360360"/>
                <a:gridCol w="411120"/>
                <a:gridCol w="382320"/>
                <a:gridCol w="382680"/>
                <a:gridCol w="362160"/>
                <a:gridCol w="333360"/>
                <a:gridCol w="393480"/>
                <a:gridCol w="362160"/>
                <a:gridCol w="395280"/>
                <a:gridCol w="426960"/>
                <a:gridCol w="361800"/>
                <a:gridCol w="530280"/>
              </a:tblGrid>
              <a:tr h="378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Un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/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56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SUDESTE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56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SUDESTE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56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S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NORDE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R NORTE/CENTRO-OE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000840" y="5500800"/>
          <a:ext cx="2286000" cy="10000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00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 Imóveis Alienados até agosto de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4"/>
          <p:cNvSpPr/>
          <p:nvPr/>
        </p:nvSpPr>
        <p:spPr>
          <a:xfrm>
            <a:off x="785880" y="1285920"/>
            <a:ext cx="7574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en-US" sz="2000" spc="-1" strike="noStrike">
                <a:solidFill>
                  <a:srgbClr val="191966"/>
                </a:solidFill>
                <a:latin typeface="Arial"/>
              </a:rPr>
              <a:t>IMÓVEIS ALIENADOS (Previsto x Realiz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INSS</cp:lastModifiedBy>
  <dcterms:modified xsi:type="dcterms:W3CDTF">2015-09-15T22:10:19Z</dcterms:modified>
  <cp:revision>528</cp:revision>
  <dc:subject/>
  <dc:title>Slide 1</dc:title>
</cp:coreProperties>
</file>